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0EF-6F2D-41EE-9171-7BE6479D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A1E-1A7F-45EA-ADDC-4E755EAC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D24-7284-4893-AD70-1CFABB14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2E8-BE33-4EC7-A3F7-515B4B67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CCD-C545-499E-BA07-36858BE4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A27-A95B-4884-9BFF-C3FFAE67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237-D502-40CE-9538-34335104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F1E-3552-43A6-8F2E-F1FE8BA5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C54-91C6-426E-A28E-0F9C27E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384-1772-4771-884A-8AE5C8C6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397-33D2-46B8-BDA6-8F6AE4B5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58F-2A18-4BE3-A11C-537E1010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B6361-6CFB-4F0E-8E26-2E357BE460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0FE21-CEBA-4859-B0D2-9640326AF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rcRect l="69522" t="0" r="0" b="63926"/>
          <a:stretch/>
        </p:blipFill>
        <p:spPr>
          <a:xfrm>
            <a:off x="2602080" y="3741840"/>
            <a:ext cx="1471320" cy="1741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way will this box mo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ube 4"/>
          <p:cNvSpPr/>
          <p:nvPr/>
        </p:nvSpPr>
        <p:spPr>
          <a:xfrm>
            <a:off x="3670200" y="3429000"/>
            <a:ext cx="2044800" cy="18064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.1 Force Class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ce is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ush or a pul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lanced forces – forces a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opposite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direction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qual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siz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forces on an object are balanced, the object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es not mov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balanced forces – forces a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no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l or a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no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opposite dir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forces on an object are unbalanced, the object moves in the direction of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greater push or pull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3:58:09Z</dcterms:created>
  <dc:creator>Caroline Roth</dc:creator>
  <dc:description/>
  <dc:language>en-US</dc:language>
  <cp:lastModifiedBy>Caroline Roth</cp:lastModifiedBy>
  <dcterms:modified xsi:type="dcterms:W3CDTF">2011-02-16T04:23:14Z</dcterms:modified>
  <cp:revision>1</cp:revision>
  <dc:subject/>
  <dc:title>Do Now</dc:title>
</cp:coreProperties>
</file>